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7E7-1D66-47C2-B17C-65773BE5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C84-A46C-4FB7-AF57-7C9E9410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76A-D40F-4F46-B5C4-C22D9CB4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3F6-EE98-498A-9715-1F186ED9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3E1-63A7-42C3-A188-2488C572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EA5-981A-4BA2-A068-CCDAEE58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527-F64E-434F-95F5-5563DF64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E95-B0E3-4504-9F97-53CF611C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2EC-512E-4486-925A-2DA7E511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2DE-83A9-4366-B4F4-E23A9472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386-AC7F-447B-9C75-2EF25F2A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478-07F6-420F-864B-D9113D4E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8DC1-ABDA-49BF-96FA-6379541B3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aga.pl/tekst/54927-55-stopy_metali" TargetMode="External"/><Relationship Id="rId2" Type="http://schemas.openxmlformats.org/officeDocument/2006/relationships/hyperlink" Target="http://www.sciaga.pl/tekst/54927-55-stopy_metali" TargetMode="External"/><Relationship Id="rId3" Type="http://schemas.openxmlformats.org/officeDocument/2006/relationships/hyperlink" Target="http://www.sciaga.pl/tekst/54927-55-stopy_metali" TargetMode="External"/><Relationship Id="rId4" Type="http://schemas.openxmlformats.org/officeDocument/2006/relationships/hyperlink" Target="http://x02.szkolnictwo.pl/Metale_niemeta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01400"/>
            <a:ext cx="6993000" cy="61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top metali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9280" y="1197000"/>
            <a:ext cx="867564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st mieszaniną dwóch lub większej ilości metali lub metalu z innymi pierwiastkami niemetalicznymi, doprowadzoną do temperatury powyżej temperatury topnienia, a następnie schłodzon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y mają inne właściwości niż metale, z których one powsta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a topnienia stopów  jest na ogół niższa niż temperatura metali, z których je otrzymano. Mają również inną twardość, wytrzymałość i ciągliw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łoto i srebro jako pierwiastki są zbyt miękkie, aby służyły do wyrobu biżuterii. Dlatego stosuje się ich stopy z innymi metalami głównie z miedzi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916360" y="1052640"/>
            <a:ext cx="345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raluminium  to stop zawierający głównie glin, oraz dodatki stopowe: zwykle miedź (2.0-4.9 %), mangan (0.3-1.0 %), magnez (0.15-1.8 %), często także krzem, żelazo i inne w łącznej ilości ok. 6 do 8%, przeznaczony do przeróbki plastycznej. Zastosowanie: m.in. w lotnictwie do części konstruk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43200" y="52401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ąz jest stopem zawierającym miedź i cynę. Jest stosowany do odlewania dzwonów, pomników i rzeź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300720" y="4221000"/>
            <a:ext cx="24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iądz to stop miedzi i cynku. Ma zastosowanie przy wyrobie części maszyn, armatury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przedmiotów ozdob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590920" cy="173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333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zykłady zastosowań stopó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17528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54304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54560" y="991440"/>
            <a:ext cx="5689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l – stop żelaza z niewielką ilością węgla (około 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l obok żelaza i węgla zawiera zwykle również inne składniki np. chrom, nikiel, mangan, wolfram, miedź, molibden, tytan.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859280" y="3429000"/>
            <a:ext cx="3529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aroserie samochod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krycia dachu i elew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uszki do konser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nstrukcje budow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menty meb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atraki (elektrownie wiatro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atki i platformy morsk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93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ykłady zastosowań st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62064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d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 Monela zawiera 70% niklu i 30% miedzi. Oblicz ile niklu i miedzi potrzeba do otrzymania 250 g s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362320"/>
            <a:ext cx="777708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ane:                                                                                Szuka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70%                                                        m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30%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sa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stopu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=25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iąz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nikl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                   = 175g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miedz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                 =7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ź: Do otrzymania 250g stopu Monela potrzeba 175 g nikl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 75 g mied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600200" y="4724280"/>
                <a:ext cx="8859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5943600" y="4724280"/>
                <a:ext cx="86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ciaga.pl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tekst/54927-55-stopy_me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x02.szkolnictwo.pl/Metale_nieme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4:54Z</dcterms:created>
  <dc:creator>Toshiba</dc:creator>
  <dc:description/>
  <dc:language>en-US</dc:language>
  <cp:lastModifiedBy>Toshiba</cp:lastModifiedBy>
  <dcterms:modified xsi:type="dcterms:W3CDTF">2013-05-05T18:5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